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96C-83E0-4819-8B60-F8D15560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E5F-2201-49BA-A89F-D22F7FC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753-04D3-49EA-83CA-DD576DA6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20D-6468-4F6E-993F-55C79A6E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724-9318-45D9-A32A-76A0B01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851-95FD-4AC9-907E-338D11C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5DE-5640-4287-93C9-6BAA501E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132-40E5-4F1D-924D-A8704E24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9D0-807A-4378-B795-49F8BEE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49B-60A8-4B51-B5EF-3E286FE0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15E-B36D-4EE7-AAF3-0F6BC26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310-A079-4AAA-972E-28D4FA6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6F9F-24F1-40DF-8654-622F5549C7E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izone.co.krnailnews.co.k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op.joinkfa.com/" TargetMode="External"/><Relationship Id="rId3" Type="http://schemas.openxmlformats.org/officeDocument/2006/relationships/hyperlink" Target="http://www.samsungcard.co.kr/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pop.joinkfa.com/" TargetMode="External"/><Relationship Id="rId5" Type="http://schemas.openxmlformats.org/officeDocument/2006/relationships/hyperlink" Target="http://www.sdu.ac.kr/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04360" y="243360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한국네일협회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[Koreanail.org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7230600" y="5373720"/>
            <a:ext cx="1803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ebsite :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www.webizone.co.kr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작 성 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국네일기술진흥원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략기획실 팀장 박합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날     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 2005. 2. 2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4441320" y="2924280"/>
            <a:ext cx="23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  <a:ea typeface="HY해서M확장2"/>
              </a:rPr>
              <a:t>Story Boar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34280" y="268200"/>
            <a:ext cx="177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0000"/>
                </a:solidFill>
                <a:latin typeface="Arial"/>
                <a:ea typeface="HY해서M확장2"/>
              </a:rPr>
              <a:t>Webizone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302520" y="655632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2852640"/>
            <a:ext cx="165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공지사항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행사안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보도자료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852640"/>
            <a:ext cx="2195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214720" y="234936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852640"/>
            <a:ext cx="219564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0" y="1701720"/>
            <a:ext cx="202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문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!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한국네일협회가 앞장서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2806560"/>
            <a:ext cx="252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세무상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il Gallery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EBZINE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주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월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31840" y="266760"/>
            <a:ext cx="24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게시판 형식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3384720" y="830160"/>
            <a:ext cx="222840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1150920"/>
            <a:ext cx="287784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1424160"/>
            <a:ext cx="287784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435240" y="847800"/>
            <a:ext cx="222840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109440" y="116856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109440" y="144144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 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09440" y="170640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109440" y="197316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09440" y="22384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6291720" y="664380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437400" y="2832120"/>
            <a:ext cx="222696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09440" y="31528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09440" y="3425760"/>
            <a:ext cx="287820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3388680" y="2854440"/>
            <a:ext cx="222696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060720" y="317484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3060720" y="344808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060720" y="372420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440640" y="4848120"/>
            <a:ext cx="222372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109440" y="51688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109440" y="544212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 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391920" y="4870440"/>
            <a:ext cx="222372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71280" y="2637000"/>
            <a:ext cx="89647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108000" y="4653000"/>
            <a:ext cx="89647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3059280" y="4222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179280" y="3500280"/>
            <a:ext cx="6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942840" y="350028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227880" y="3500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 파일 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 적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06280" y="56610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5735520"/>
            <a:ext cx="251928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리플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60720" y="51912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60720" y="546408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3060720" y="574056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6238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836640"/>
            <a:ext cx="2952720" cy="17287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6012000" y="2779560"/>
            <a:ext cx="2952720" cy="172908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6012000" y="4795920"/>
            <a:ext cx="2952720" cy="17287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6580440" y="907920"/>
            <a:ext cx="1864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공지사항 ㅣ 행사안내 ㅣ 보도자료  ㅣ 동영상 게시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EBZIN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 day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상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6389640" y="486900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유 게시판 ㅣ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게시판 ㅣ 세무상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제안합니다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6432840" y="2840040"/>
            <a:ext cx="13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회원뉴스 ㅣ 네일뉴스 ㅣ 네일갤러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 day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3060720" y="170820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059280" y="2206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907920"/>
            <a:ext cx="2519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장 인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연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윤리강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정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구성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조직 구성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진 구성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회안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오시는 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사회활동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뉴스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inai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Expo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Da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1052640"/>
            <a:ext cx="0" cy="53290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672000" y="981000"/>
            <a:ext cx="219528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3. KPNT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증 발급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응시절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시행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격검정 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응시자격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시험과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준비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종목 및 평가방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심사기준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필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젤시스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아크릴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행사안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052640"/>
            <a:ext cx="0" cy="53290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981000"/>
            <a:ext cx="2520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세무상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il Gallery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EBZINE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주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월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고객센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온라인 문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제안 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이트 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8.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개인정보 보호정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이용약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비밀번호 찾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관리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검색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진흥원 참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통계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진흥원 참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등급 변경 기능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07920"/>
            <a:ext cx="8085240" cy="54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모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검색기능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이름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별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색된 정보 수정기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A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– 임원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B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위원 – 운영위원 – 감독관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C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반회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계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하루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1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주일 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한달 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체 방문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문의 게시판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고객센터를 통해 보낸 이메일 열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KNA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뉴스 등록 폼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정보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A~D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등급 분류 기능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모드에서 수정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체 관리자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정보 등급 수정 기능 포함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ㅣ 모든 게시물 수정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삭제 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임원분류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임원진 게시판 이용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반회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특이사항 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위원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운영위원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감독관이면서 기술강사 취득자의 경우 회원등급에의 별도 분류 필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협회안내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회안내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지회지부 웹사이트 제작 운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협회뉴스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공지사항 ㅣ 행사안내 ㅣ보도자료 ㅣ  회원뉴스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l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파일업로드 기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관련 이미지 업로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 index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와 연동 ㅣ 파일업로드 제한설정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로그인후 글읽기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html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딩 가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네일정보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원 국내 대학기관 연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세무상단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심사위원 이상  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 이상 운영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로그인 된 회원 글쓰기 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모든 게시판은 로그인 또는 회원가입후 글 쓰기 삭제가 가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샵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세부 지역별 검색 및 업체명 검색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샵업주 직접입력 기능 및 관리자가 직접 등록 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지도서비스에 대한 좌표값 입력폼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494080"/>
            <a:ext cx="8353440" cy="19429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998280" y="2565360"/>
            <a:ext cx="287856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참고사이트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http://pop.joinkfa.com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대한축구협회 사이트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서울 디지털 대학교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디자인 레이아웃 방안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        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플래시 메뉴 참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중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초기 메인 페이지에 적절한 플래시 효과를 좌측에 정렬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olor 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약간 어두운 파스텔톤 </a:t>
            </a:r>
            <a:r>
              <a:rPr b="1" lang="ko-KR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참고 사이트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좌측메뉴는 플래시 메뉴로 작업요망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참고사이트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3"/>
              </a:rPr>
              <a:t>http://www.samsungcard.co.k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메인 페이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326640" y="666108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982800"/>
            <a:ext cx="8748720" cy="163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일반 게시판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회원에 한해 글읽기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쓰기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행사안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만이 등록가능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사이트 관리자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을 수작업으로 올리는 방식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일반 글쓰기 방식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가지 기능 구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앨범 게시판템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료실 최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0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 자료당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M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를 초과 할 수 없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로그인회원 이용가능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문의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메일폼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이메일 셋팅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아웃룩메일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가입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일반 회원가입폼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관리자 – 임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심사위원 – 운영위원 – 감독관 – 일반회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0920" y="266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한국네일협회 참고 사이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2200" y="1557360"/>
            <a:ext cx="4105440" cy="349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30760" y="1557360"/>
            <a:ext cx="4105440" cy="3497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3520" y="1295280"/>
            <a:ext cx="3474000" cy="26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대한축구협회 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http://pop.joinkfa.co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굴림"/>
              </a:rPr>
              <a:t>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055840" y="1301760"/>
            <a:ext cx="3435840" cy="26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서울 디지털 대학교 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굴림"/>
                <a:hlinkClick r:id="rId5"/>
              </a:rPr>
              <a:t>http://www.sdu.ac.kr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굴림"/>
              </a:rPr>
              <a:t>  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9600" y="26676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홈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218120" y="1558800"/>
            <a:ext cx="3600360" cy="453420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5897160" y="907920"/>
            <a:ext cx="16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사이트 맵  ㅣ  고객 센터   ㅣ   온라인 문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4682880" y="6296040"/>
            <a:ext cx="253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온라인 문의 ㅣ 사이트 맵 ㅣ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85920" y="1182600"/>
            <a:ext cx="401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ㅣ     홍보마당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ㅣ    알림마당     ㅣ     네일정보     ㅣ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1752480" cy="50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557360"/>
            <a:ext cx="2017440" cy="453564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15000" y="19177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37680" y="21337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98560" y="1946160"/>
            <a:ext cx="733320" cy="171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98560" y="2162160"/>
            <a:ext cx="733320" cy="171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1917720"/>
            <a:ext cx="50328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8842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87880" y="2349360"/>
            <a:ext cx="126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비밀번호 찾기 ㅣ 회원가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0680" y="2577960"/>
            <a:ext cx="85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Quick Lin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24000" y="2822400"/>
            <a:ext cx="149544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94028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405720" y="494028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   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21640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82680" y="5216400"/>
            <a:ext cx="177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504040"/>
            <a:ext cx="1871640" cy="21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81240" y="5504040"/>
            <a:ext cx="175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Nail Day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290840" y="163044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728600" y="1689120"/>
            <a:ext cx="255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 ㅣ 행사안내  ㅣ  보다자료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290840" y="4941720"/>
            <a:ext cx="34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4375440" y="5000760"/>
            <a:ext cx="80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격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5016600"/>
            <a:ext cx="0" cy="64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480360" y="5000760"/>
            <a:ext cx="110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90840" y="3860640"/>
            <a:ext cx="3456000" cy="1008000"/>
            <a:chOff x="4290840" y="3860640"/>
            <a:chExt cx="3456000" cy="1008000"/>
          </a:xfrm>
        </p:grpSpPr>
        <p:sp>
          <p:nvSpPr>
            <p:cNvPr id="105" name=""/>
            <p:cNvSpPr/>
            <p:nvPr/>
          </p:nvSpPr>
          <p:spPr>
            <a:xfrm>
              <a:off x="4290840" y="3860640"/>
              <a:ext cx="3456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5840" y="3860640"/>
              <a:ext cx="2971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Nail Gallery                                                              mor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4362480" y="4078080"/>
              <a:ext cx="32958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4290840" y="270828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927320" y="26748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KNA NEW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회원뉴스   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601812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616440" y="267012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NAIL NEW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뉴스     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933720"/>
            <a:ext cx="863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59080" y="1557360"/>
            <a:ext cx="1762200" cy="4535280"/>
            <a:chOff x="2359080" y="1557360"/>
            <a:chExt cx="1762200" cy="4535280"/>
          </a:xfrm>
        </p:grpSpPr>
        <p:sp>
          <p:nvSpPr>
            <p:cNvPr id="114" name=""/>
            <p:cNvSpPr/>
            <p:nvPr/>
          </p:nvSpPr>
          <p:spPr>
            <a:xfrm>
              <a:off x="2359080" y="1557360"/>
              <a:ext cx="1762200" cy="4535280"/>
            </a:xfrm>
            <a:custGeom>
              <a:avLst/>
              <a:gdLst>
                <a:gd name="textAreaLeft" fmla="*/ 86040 w 1762200"/>
                <a:gd name="textAreaRight" fmla="*/ 1676160 w 1762200"/>
                <a:gd name="textAreaTop" fmla="*/ 86040 h 4535280"/>
                <a:gd name="textAreaBottom" fmla="*/ 4449240 h 4535280"/>
              </a:gdLst>
              <a:ahLst/>
              <a:rect l="textAreaLeft" t="textAreaTop" r="textAreaRight" b="textAreaBottom"/>
              <a:pathLst>
                <a:path w="21600" h="55584">
                  <a:moveTo>
                    <a:pt x="3600" y="0"/>
                  </a:moveTo>
                  <a:arcTo wR="3600" hR="3600" stAng="16200000" swAng="-5400000"/>
                  <a:lnTo>
                    <a:pt x="0" y="51984"/>
                  </a:lnTo>
                  <a:arcTo wR="3600" hR="3600" stAng="10800000" swAng="-5400000"/>
                  <a:lnTo>
                    <a:pt x="18000" y="55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85600" y="2915280"/>
              <a:ext cx="106452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플래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문구 </a:t>
              </a: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: </a:t>
              </a: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저 최경희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연기자가 되지 않았다면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네일리스트가 되었을 거에요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889760" y="1557360"/>
            <a:ext cx="107964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5805360"/>
            <a:ext cx="172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5805360"/>
            <a:ext cx="165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4597560" y="5792760"/>
            <a:ext cx="95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관련 대학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325560" y="579276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샾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4485600" y="5246640"/>
            <a:ext cx="57708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시험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482800" y="5246640"/>
            <a:ext cx="57708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자격거정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4448520" y="5499000"/>
            <a:ext cx="65304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증 발급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456160" y="5499000"/>
            <a:ext cx="63036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시험 장소안내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5202360"/>
            <a:ext cx="127152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진흥원 자격검정 지정제품 참고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79276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505800" y="579276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기술강사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65300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524160" y="465300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한국네일기술진흥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1314360" y="3933720"/>
            <a:ext cx="881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108240"/>
            <a:ext cx="1871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305604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31082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946520" y="363204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▲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31082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162800" y="310824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서울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경기도 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전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부산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90880" y="31082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IM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61520" y="4005360"/>
            <a:ext cx="62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IM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국네일협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영상뉴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457640" y="3967200"/>
            <a:ext cx="66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KBS,MBC,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BS,EB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한국네일협회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관련방송 보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4336920" y="2733840"/>
            <a:ext cx="503280" cy="190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284720" y="3573360"/>
            <a:ext cx="3456000" cy="231120"/>
            <a:chOff x="4284720" y="3573360"/>
            <a:chExt cx="3456000" cy="231120"/>
          </a:xfrm>
        </p:grpSpPr>
        <p:sp>
          <p:nvSpPr>
            <p:cNvPr id="142" name=""/>
            <p:cNvSpPr/>
            <p:nvPr/>
          </p:nvSpPr>
          <p:spPr>
            <a:xfrm>
              <a:off x="4284720" y="3586320"/>
              <a:ext cx="172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4720" y="3586320"/>
              <a:ext cx="1656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83000" y="3573360"/>
              <a:ext cx="116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KNA </a:t>
              </a: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주간 </a:t>
              </a: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WEBZIN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83000" y="3573360"/>
              <a:ext cx="116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KNA </a:t>
              </a: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월간 </a:t>
              </a: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WEBZIN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006040" y="1557360"/>
            <a:ext cx="80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증마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7956720" y="1773360"/>
            <a:ext cx="93636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8061840" y="1785960"/>
            <a:ext cx="72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기술전문교육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한국네일기술진흥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로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24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8025840" y="2421000"/>
            <a:ext cx="82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대로 알고 제대로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7885080" y="263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8137080" y="263700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인증학원 전체보기 ▶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2852640"/>
            <a:ext cx="936360" cy="1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06864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7956720" y="328464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3500280"/>
            <a:ext cx="936360" cy="1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371628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7885080" y="4005360"/>
            <a:ext cx="1079640" cy="2160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8011800" y="4005360"/>
            <a:ext cx="83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↑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학원 배너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좌측으로 랜덤 스크롤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배너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Deful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초후 이동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356000" y="1916280"/>
            <a:ext cx="3311640" cy="647640"/>
            <a:chOff x="4356000" y="1916280"/>
            <a:chExt cx="3311640" cy="647640"/>
          </a:xfrm>
        </p:grpSpPr>
        <p:sp>
          <p:nvSpPr>
            <p:cNvPr id="161" name=""/>
            <p:cNvSpPr/>
            <p:nvPr/>
          </p:nvSpPr>
          <p:spPr>
            <a:xfrm>
              <a:off x="4530960" y="1916280"/>
              <a:ext cx="161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56000" y="2131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27000" y="2131920"/>
              <a:ext cx="158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56000" y="2347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27000" y="2347920"/>
              <a:ext cx="158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2563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98840" y="2997360"/>
            <a:ext cx="1368360" cy="431640"/>
            <a:chOff x="4398840" y="2997360"/>
            <a:chExt cx="1368360" cy="431640"/>
          </a:xfrm>
        </p:grpSpPr>
        <p:sp>
          <p:nvSpPr>
            <p:cNvPr id="168" name=""/>
            <p:cNvSpPr/>
            <p:nvPr/>
          </p:nvSpPr>
          <p:spPr>
            <a:xfrm>
              <a:off x="4516560" y="2997360"/>
              <a:ext cx="108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12960" y="3213000"/>
              <a:ext cx="105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8840" y="3213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98840" y="3429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137280" y="2997360"/>
            <a:ext cx="1368360" cy="431640"/>
            <a:chOff x="6137280" y="2997360"/>
            <a:chExt cx="1368360" cy="431640"/>
          </a:xfrm>
        </p:grpSpPr>
        <p:sp>
          <p:nvSpPr>
            <p:cNvPr id="173" name=""/>
            <p:cNvSpPr/>
            <p:nvPr/>
          </p:nvSpPr>
          <p:spPr>
            <a:xfrm>
              <a:off x="6255000" y="2997360"/>
              <a:ext cx="108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1400" y="3213000"/>
              <a:ext cx="105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37280" y="3213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7280" y="3429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399560" y="27338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6066000" y="2733840"/>
            <a:ext cx="502920" cy="190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128640" y="27338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2130840" y="234936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안내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252360" y="285444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장 인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연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윤리강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정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구성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 구성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회안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오시는 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2546640" y="1701720"/>
            <a:ext cx="188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리스트를 위해 강한 협회가 되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2130840" y="234936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2808360"/>
            <a:ext cx="15843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사회활동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inai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Expo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Da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2462760" y="1701720"/>
            <a:ext cx="157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인을 위한 협회가 되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1240" y="266760"/>
            <a:ext cx="27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KPNT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2124720" y="2349360"/>
            <a:ext cx="92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KPNT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격정보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78440" y="2421000"/>
            <a:ext cx="92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881800" y="1701720"/>
            <a:ext cx="317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상에서 가장 아름다운 약속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을 준비하는 한국네일협회의 마음입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-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2852640"/>
            <a:ext cx="1657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증 발급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응시절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시행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격검정 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응시자격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시험과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준비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종목 및 평가방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심사기준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필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젤시스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아크릴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5:17:35Z</dcterms:created>
  <dc:creator>박합규</dc:creator>
  <dc:description/>
  <dc:language>en-US</dc:language>
  <cp:lastModifiedBy>박합규</cp:lastModifiedBy>
  <dcterms:modified xsi:type="dcterms:W3CDTF">2005-03-02T08:13:34Z</dcterms:modified>
  <cp:revision>530</cp:revision>
  <dc:subject/>
  <dc:title>Website Planning </dc:title>
</cp:coreProperties>
</file>